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C54-7974-42A6-BC23-C5E811B0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BFD-9416-4E1B-87C5-354DF9F8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D9D-6852-4C5E-BABE-DD20CB24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06E-20A5-42CB-9CBC-BAFA9671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3F6-E6EC-4777-9EEE-2AD24B6A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09B-9453-4894-B6F7-8130CDF1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4CD-F048-45CA-B1D6-DBA2D5B8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69A-6570-44CE-B389-EE5F56B8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B50-9F62-46B5-8328-9F9BBB14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0E1-92A4-4CEA-8DD2-2B0E0995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BA7-4F7B-4999-B15A-FDB82321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65B-E3AB-4D64-AE2B-9B26C5AF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B759-0A1C-47B9-B7E4-48EAB38F2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981080" y="914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inya Nouvelle"/>
              </a:rPr>
              <a:t>Quiet on the Set</a:t>
            </a:r>
            <a:endParaRPr b="0" lang="en-US" sz="1800" spc="1" strike="noStrike">
              <a:ln w="414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inya Nouvelle"/>
              <a:ea typeface="Minya Nouvelle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3880" y="5257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Bethel Elementary / 2011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4"/>
          <p:cNvSpPr/>
          <p:nvPr/>
        </p:nvSpPr>
        <p:spPr>
          <a:xfrm>
            <a:off x="1981080" y="2209680"/>
            <a:ext cx="4953240" cy="3022560"/>
          </a:xfrm>
          <a:prstGeom prst="flowChartProcess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2514600" y="2133720"/>
            <a:ext cx="403848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Media Center Ru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8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46" name="Rectangle 21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2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3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4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5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6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27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9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54" name="Rectangle 30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31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32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33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4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6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AutoShape 37"/>
          <p:cNvSpPr/>
          <p:nvPr/>
        </p:nvSpPr>
        <p:spPr>
          <a:xfrm>
            <a:off x="7162920" y="914400"/>
            <a:ext cx="1752480" cy="1665360"/>
          </a:xfrm>
          <a:custGeom>
            <a:avLst/>
            <a:gdLst/>
            <a:ahLst/>
            <a:rect l="l" t="t" r="r" b="b"/>
            <a:pathLst>
              <a:path w="1752600" h="1665288">
                <a:moveTo>
                  <a:pt x="2" y="636082"/>
                </a:moveTo>
                <a:lnTo>
                  <a:pt x="669437" y="636086"/>
                </a:lnTo>
                <a:lnTo>
                  <a:pt x="876300" y="0"/>
                </a:lnTo>
                <a:lnTo>
                  <a:pt x="1083163" y="636086"/>
                </a:lnTo>
                <a:lnTo>
                  <a:pt x="1752598" y="636082"/>
                </a:lnTo>
                <a:lnTo>
                  <a:pt x="1211011" y="1029200"/>
                </a:lnTo>
                <a:lnTo>
                  <a:pt x="1417882" y="1665284"/>
                </a:lnTo>
                <a:lnTo>
                  <a:pt x="876300" y="1272158"/>
                </a:lnTo>
                <a:lnTo>
                  <a:pt x="334718" y="1665284"/>
                </a:lnTo>
                <a:lnTo>
                  <a:pt x="541589" y="1029200"/>
                </a:lnTo>
                <a:lnTo>
                  <a:pt x="2" y="636082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8"/>
          <p:cNvSpPr/>
          <p:nvPr/>
        </p:nvSpPr>
        <p:spPr>
          <a:xfrm>
            <a:off x="152280" y="914400"/>
            <a:ext cx="1752840" cy="1665360"/>
          </a:xfrm>
          <a:custGeom>
            <a:avLst/>
            <a:gdLst/>
            <a:ahLst/>
            <a:rect l="l" t="t" r="r" b="b"/>
            <a:pathLst>
              <a:path w="1752600" h="1665288">
                <a:moveTo>
                  <a:pt x="2" y="636082"/>
                </a:moveTo>
                <a:lnTo>
                  <a:pt x="669437" y="636086"/>
                </a:lnTo>
                <a:lnTo>
                  <a:pt x="876300" y="0"/>
                </a:lnTo>
                <a:lnTo>
                  <a:pt x="1083163" y="636086"/>
                </a:lnTo>
                <a:lnTo>
                  <a:pt x="1752598" y="636082"/>
                </a:lnTo>
                <a:lnTo>
                  <a:pt x="1211011" y="1029200"/>
                </a:lnTo>
                <a:lnTo>
                  <a:pt x="1417882" y="1665284"/>
                </a:lnTo>
                <a:lnTo>
                  <a:pt x="876300" y="1272158"/>
                </a:lnTo>
                <a:lnTo>
                  <a:pt x="334718" y="1665284"/>
                </a:lnTo>
                <a:lnTo>
                  <a:pt x="541589" y="1029200"/>
                </a:lnTo>
                <a:lnTo>
                  <a:pt x="2" y="636082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1"/>
          <p:cNvGrpSpPr/>
          <p:nvPr/>
        </p:nvGrpSpPr>
        <p:grpSpPr>
          <a:xfrm>
            <a:off x="-356040" y="2305080"/>
            <a:ext cx="3303000" cy="3285720"/>
            <a:chOff x="-356040" y="2305080"/>
            <a:chExt cx="3303000" cy="3285720"/>
          </a:xfrm>
        </p:grpSpPr>
        <p:pic>
          <p:nvPicPr>
            <p:cNvPr id="64" name="Picture 39" descr="MCEN00973_0000[1]"/>
            <p:cNvPicPr/>
            <p:nvPr/>
          </p:nvPicPr>
          <p:blipFill>
            <a:blip r:embed="rId1"/>
            <a:stretch/>
          </p:blipFill>
          <p:spPr>
            <a:xfrm rot="20418000">
              <a:off x="0" y="2666520"/>
              <a:ext cx="2590920" cy="25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40"/>
            <p:cNvSpPr txBox="1"/>
            <p:nvPr/>
          </p:nvSpPr>
          <p:spPr>
            <a:xfrm rot="20357400">
              <a:off x="607680" y="4266720"/>
              <a:ext cx="2128680" cy="75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STAR </a:t>
              </a:r>
              <a:endPara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STUDENTS</a:t>
              </a:r>
              <a:endPara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6" name="Picture 42" descr="MCj02346050000[1]"/>
          <p:cNvPicPr/>
          <p:nvPr/>
        </p:nvPicPr>
        <p:blipFill>
          <a:blip r:embed="rId2"/>
          <a:stretch/>
        </p:blipFill>
        <p:spPr>
          <a:xfrm>
            <a:off x="7162920" y="2895480"/>
            <a:ext cx="179208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233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241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WordArt 19"/>
          <p:cNvSpPr txBox="1"/>
          <p:nvPr/>
        </p:nvSpPr>
        <p:spPr>
          <a:xfrm>
            <a:off x="2743200" y="1066680"/>
            <a:ext cx="5791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2nd Tim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380880" y="32767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inya Nouvelle"/>
              </a:rPr>
              <a:t>Think Ti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5" descr="hw8_boy13"/>
          <p:cNvPicPr/>
          <p:nvPr/>
        </p:nvPicPr>
        <p:blipFill>
          <a:blip r:embed="rId1"/>
          <a:stretch/>
        </p:blipFill>
        <p:spPr>
          <a:xfrm>
            <a:off x="304920" y="457200"/>
            <a:ext cx="1495440" cy="21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253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261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WordArt 23"/>
          <p:cNvSpPr txBox="1"/>
          <p:nvPr/>
        </p:nvSpPr>
        <p:spPr>
          <a:xfrm>
            <a:off x="2666880" y="60948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3rd Tim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269" name="Text Box 24"/>
          <p:cNvSpPr/>
          <p:nvPr/>
        </p:nvSpPr>
        <p:spPr>
          <a:xfrm>
            <a:off x="45720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inya Nouvelle"/>
              </a:rPr>
              <a:t>Lose Book Checkou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6" descr="j0233771"/>
          <p:cNvPicPr/>
          <p:nvPr/>
        </p:nvPicPr>
        <p:blipFill>
          <a:blip r:embed="rId1"/>
          <a:stretch/>
        </p:blipFill>
        <p:spPr>
          <a:xfrm>
            <a:off x="609480" y="838080"/>
            <a:ext cx="1828800" cy="149544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27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273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281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WordArt 19"/>
          <p:cNvSpPr txBox="1"/>
          <p:nvPr/>
        </p:nvSpPr>
        <p:spPr>
          <a:xfrm>
            <a:off x="2743200" y="76212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Final Tim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380880" y="2438280"/>
            <a:ext cx="807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inya Nouvelle"/>
              </a:rPr>
              <a:t>Sent Back to Class/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Minya Nouvelle"/>
              </a:rPr>
              <a:t>Office Referr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2" descr="j0232054"/>
          <p:cNvPicPr/>
          <p:nvPr/>
        </p:nvPicPr>
        <p:blipFill>
          <a:blip r:embed="rId1"/>
          <a:stretch/>
        </p:blipFill>
        <p:spPr>
          <a:xfrm>
            <a:off x="1219320" y="762120"/>
            <a:ext cx="1271520" cy="132084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293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301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WordArt 19"/>
          <p:cNvSpPr txBox="1"/>
          <p:nvPr/>
        </p:nvSpPr>
        <p:spPr>
          <a:xfrm>
            <a:off x="2666880" y="609480"/>
            <a:ext cx="5791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EWARD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380880" y="2438280"/>
            <a:ext cx="807732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At the end of each 9 week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Book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St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Class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4" descr="hw8_youreastar"/>
          <p:cNvPicPr/>
          <p:nvPr/>
        </p:nvPicPr>
        <p:blipFill>
          <a:blip r:embed="rId1"/>
          <a:stretch/>
        </p:blipFill>
        <p:spPr>
          <a:xfrm>
            <a:off x="22860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1981080" y="914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inya Nouvelle"/>
              </a:rPr>
              <a:t>Quiet on the Set</a:t>
            </a:r>
            <a:endParaRPr b="0" lang="en-US" sz="1800" spc="1" strike="noStrike">
              <a:ln w="414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inya Nouvelle"/>
              <a:ea typeface="Minya Nouvelle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3880" y="5257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Bethel Elementary / 2011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981080" y="2209680"/>
            <a:ext cx="4953240" cy="3022560"/>
          </a:xfrm>
          <a:prstGeom prst="flowChartProcess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362320" y="2133720"/>
            <a:ext cx="457200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Media Center Con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72" name="Rectangle 7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2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4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80" name="Rectangle 15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7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8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0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1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22"/>
          <p:cNvSpPr/>
          <p:nvPr/>
        </p:nvSpPr>
        <p:spPr>
          <a:xfrm>
            <a:off x="7162920" y="914400"/>
            <a:ext cx="1752480" cy="1665360"/>
          </a:xfrm>
          <a:custGeom>
            <a:avLst/>
            <a:gdLst/>
            <a:ahLst/>
            <a:rect l="l" t="t" r="r" b="b"/>
            <a:pathLst>
              <a:path w="1752600" h="1665288">
                <a:moveTo>
                  <a:pt x="2" y="636082"/>
                </a:moveTo>
                <a:lnTo>
                  <a:pt x="669437" y="636086"/>
                </a:lnTo>
                <a:lnTo>
                  <a:pt x="876300" y="0"/>
                </a:lnTo>
                <a:lnTo>
                  <a:pt x="1083163" y="636086"/>
                </a:lnTo>
                <a:lnTo>
                  <a:pt x="1752598" y="636082"/>
                </a:lnTo>
                <a:lnTo>
                  <a:pt x="1211011" y="1029200"/>
                </a:lnTo>
                <a:lnTo>
                  <a:pt x="1417882" y="1665284"/>
                </a:lnTo>
                <a:lnTo>
                  <a:pt x="876300" y="1272158"/>
                </a:lnTo>
                <a:lnTo>
                  <a:pt x="334718" y="1665284"/>
                </a:lnTo>
                <a:lnTo>
                  <a:pt x="541589" y="1029200"/>
                </a:lnTo>
                <a:lnTo>
                  <a:pt x="2" y="636082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3"/>
          <p:cNvSpPr/>
          <p:nvPr/>
        </p:nvSpPr>
        <p:spPr>
          <a:xfrm>
            <a:off x="152280" y="914400"/>
            <a:ext cx="1752840" cy="1665360"/>
          </a:xfrm>
          <a:custGeom>
            <a:avLst/>
            <a:gdLst/>
            <a:ahLst/>
            <a:rect l="l" t="t" r="r" b="b"/>
            <a:pathLst>
              <a:path w="1752600" h="1665288">
                <a:moveTo>
                  <a:pt x="2" y="636082"/>
                </a:moveTo>
                <a:lnTo>
                  <a:pt x="669437" y="636086"/>
                </a:lnTo>
                <a:lnTo>
                  <a:pt x="876300" y="0"/>
                </a:lnTo>
                <a:lnTo>
                  <a:pt x="1083163" y="636086"/>
                </a:lnTo>
                <a:lnTo>
                  <a:pt x="1752598" y="636082"/>
                </a:lnTo>
                <a:lnTo>
                  <a:pt x="1211011" y="1029200"/>
                </a:lnTo>
                <a:lnTo>
                  <a:pt x="1417882" y="1665284"/>
                </a:lnTo>
                <a:lnTo>
                  <a:pt x="876300" y="1272158"/>
                </a:lnTo>
                <a:lnTo>
                  <a:pt x="334718" y="1665284"/>
                </a:lnTo>
                <a:lnTo>
                  <a:pt x="541589" y="1029200"/>
                </a:lnTo>
                <a:lnTo>
                  <a:pt x="2" y="636082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4"/>
          <p:cNvGrpSpPr/>
          <p:nvPr/>
        </p:nvGrpSpPr>
        <p:grpSpPr>
          <a:xfrm>
            <a:off x="-205920" y="2363400"/>
            <a:ext cx="2953080" cy="3121200"/>
            <a:chOff x="-205920" y="2363400"/>
            <a:chExt cx="2953080" cy="3121200"/>
          </a:xfrm>
        </p:grpSpPr>
        <p:pic>
          <p:nvPicPr>
            <p:cNvPr id="90" name="Picture 25" descr="MCEN00973_0000[1]"/>
            <p:cNvPicPr/>
            <p:nvPr/>
          </p:nvPicPr>
          <p:blipFill>
            <a:blip r:embed="rId1"/>
            <a:stretch/>
          </p:blipFill>
          <p:spPr>
            <a:xfrm rot="20418000">
              <a:off x="152280" y="2666520"/>
              <a:ext cx="22363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WordArt 26"/>
            <p:cNvSpPr txBox="1"/>
            <p:nvPr/>
          </p:nvSpPr>
          <p:spPr>
            <a:xfrm rot="20357400">
              <a:off x="676440" y="4236840"/>
              <a:ext cx="1837440" cy="73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STAR </a:t>
              </a:r>
              <a:endPara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STUDENTS</a:t>
              </a:r>
              <a:endPara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2" name="Picture 27" descr="MCj02346050000[1]"/>
          <p:cNvPicPr/>
          <p:nvPr/>
        </p:nvPicPr>
        <p:blipFill>
          <a:blip r:embed="rId2"/>
          <a:stretch/>
        </p:blipFill>
        <p:spPr>
          <a:xfrm>
            <a:off x="7162920" y="2895480"/>
            <a:ext cx="179208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9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10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WordArt 23"/>
          <p:cNvSpPr txBox="1"/>
          <p:nvPr/>
        </p:nvSpPr>
        <p:spPr>
          <a:xfrm>
            <a:off x="2590920" y="533520"/>
            <a:ext cx="6095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ule 1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80880" y="236232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nya Nouvelle"/>
              </a:rPr>
              <a:t>Keep Hands to Yoursel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7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8" descr="hw8_boy1"/>
          <p:cNvPicPr/>
          <p:nvPr/>
        </p:nvPicPr>
        <p:blipFill>
          <a:blip r:embed="rId1"/>
          <a:stretch/>
        </p:blipFill>
        <p:spPr>
          <a:xfrm>
            <a:off x="0" y="0"/>
            <a:ext cx="122400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11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12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WordArt 19"/>
          <p:cNvSpPr txBox="1"/>
          <p:nvPr/>
        </p:nvSpPr>
        <p:spPr>
          <a:xfrm>
            <a:off x="2590920" y="60948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ule 2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380880" y="236232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nya Nouvelle"/>
              </a:rPr>
              <a:t>Eyes on the Reader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hw8_girl7"/>
          <p:cNvPicPr/>
          <p:nvPr/>
        </p:nvPicPr>
        <p:blipFill>
          <a:blip r:embed="rId1"/>
          <a:stretch/>
        </p:blipFill>
        <p:spPr>
          <a:xfrm>
            <a:off x="457200" y="762120"/>
            <a:ext cx="1649520" cy="243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13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14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WordArt 19"/>
          <p:cNvSpPr txBox="1"/>
          <p:nvPr/>
        </p:nvSpPr>
        <p:spPr>
          <a:xfrm>
            <a:off x="2895480" y="5335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ule 3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380880" y="236232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nya Nouvelle"/>
              </a:rPr>
              <a:t>Keep Feet Sti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4" descr="hw8_boy12"/>
          <p:cNvPicPr/>
          <p:nvPr/>
        </p:nvPicPr>
        <p:blipFill>
          <a:blip r:embed="rId1"/>
          <a:stretch/>
        </p:blipFill>
        <p:spPr>
          <a:xfrm>
            <a:off x="228600" y="990720"/>
            <a:ext cx="1495440" cy="215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15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16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WordArt 19"/>
          <p:cNvSpPr txBox="1"/>
          <p:nvPr/>
        </p:nvSpPr>
        <p:spPr>
          <a:xfrm>
            <a:off x="2971800" y="5335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ule 4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380880" y="259092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nya Nouvelle"/>
              </a:rPr>
              <a:t>Ears Listening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4" descr="hw8_girl9"/>
          <p:cNvPicPr/>
          <p:nvPr/>
        </p:nvPicPr>
        <p:blipFill>
          <a:blip r:embed="rId1"/>
          <a:stretch/>
        </p:blipFill>
        <p:spPr>
          <a:xfrm>
            <a:off x="228600" y="304920"/>
            <a:ext cx="1495440" cy="220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17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18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WordArt 19"/>
          <p:cNvSpPr txBox="1"/>
          <p:nvPr/>
        </p:nvSpPr>
        <p:spPr>
          <a:xfrm>
            <a:off x="2971800" y="5335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ule 5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380880" y="22096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nya Nouvelle"/>
              </a:rPr>
              <a:t>Mouths Qui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4" descr="hw8_girl13"/>
          <p:cNvPicPr/>
          <p:nvPr/>
        </p:nvPicPr>
        <p:blipFill>
          <a:blip r:embed="rId1"/>
          <a:stretch/>
        </p:blipFill>
        <p:spPr>
          <a:xfrm>
            <a:off x="228600" y="457200"/>
            <a:ext cx="1247760" cy="195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194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202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WordArt 19"/>
          <p:cNvSpPr txBox="1"/>
          <p:nvPr/>
        </p:nvSpPr>
        <p:spPr>
          <a:xfrm>
            <a:off x="2666880" y="3808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Read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80880" y="1447920"/>
            <a:ext cx="876312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inya Nouvelle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espect the library materi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nya Nouvelle"/>
              </a:rPr>
              <a:t>so we’ll have more to us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inya Nouvelle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verything has a correct plac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nya Nouvelle"/>
              </a:rPr>
              <a:t>(so we’ll be able to find what we ne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inya Nouvel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lways shar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nya Nouvelle"/>
              </a:rPr>
              <a:t>(so we’ll return things when they are d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inya Nouvelle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on’t disturb others working in the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3"/>
          <p:cNvSpPr/>
          <p:nvPr/>
        </p:nvSpPr>
        <p:spPr>
          <a:xfrm rot="20373000">
            <a:off x="8153280" y="5916240"/>
            <a:ext cx="990720" cy="941400"/>
          </a:xfrm>
          <a:custGeom>
            <a:avLst/>
            <a:gdLst/>
            <a:ahLst/>
            <a:rect l="l" t="t" r="r" b="b"/>
            <a:pathLst>
              <a:path w="990600" h="941387">
                <a:moveTo>
                  <a:pt x="1" y="359577"/>
                </a:moveTo>
                <a:lnTo>
                  <a:pt x="378378" y="359579"/>
                </a:lnTo>
                <a:lnTo>
                  <a:pt x="495300" y="0"/>
                </a:lnTo>
                <a:lnTo>
                  <a:pt x="612222" y="359579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5"/>
                </a:lnTo>
                <a:lnTo>
                  <a:pt x="495300" y="719151"/>
                </a:lnTo>
                <a:lnTo>
                  <a:pt x="189188" y="941385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3"/>
          <p:cNvGrpSpPr/>
          <p:nvPr/>
        </p:nvGrpSpPr>
        <p:grpSpPr>
          <a:xfrm>
            <a:off x="609480" y="152280"/>
            <a:ext cx="8001000" cy="457200"/>
            <a:chOff x="609480" y="152280"/>
            <a:chExt cx="8001000" cy="457200"/>
          </a:xfrm>
        </p:grpSpPr>
        <p:sp>
          <p:nvSpPr>
            <p:cNvPr id="213" name="Rectangle 4"/>
            <p:cNvSpPr/>
            <p:nvPr/>
          </p:nvSpPr>
          <p:spPr>
            <a:xfrm>
              <a:off x="6094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54864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67057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79246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182880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>
              <a:off x="304812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4267080" y="15228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609480" y="6248520"/>
            <a:ext cx="8001000" cy="457200"/>
            <a:chOff x="609480" y="6248520"/>
            <a:chExt cx="8001000" cy="457200"/>
          </a:xfrm>
        </p:grpSpPr>
        <p:sp>
          <p:nvSpPr>
            <p:cNvPr id="221" name="Rectangle 12"/>
            <p:cNvSpPr/>
            <p:nvPr/>
          </p:nvSpPr>
          <p:spPr>
            <a:xfrm>
              <a:off x="6094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54864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"/>
            <p:cNvSpPr/>
            <p:nvPr/>
          </p:nvSpPr>
          <p:spPr>
            <a:xfrm>
              <a:off x="67057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"/>
            <p:cNvSpPr/>
            <p:nvPr/>
          </p:nvSpPr>
          <p:spPr>
            <a:xfrm>
              <a:off x="79246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182880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304812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"/>
            <p:cNvSpPr/>
            <p:nvPr/>
          </p:nvSpPr>
          <p:spPr>
            <a:xfrm>
              <a:off x="4267080" y="62485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WordArt 19"/>
          <p:cNvSpPr txBox="1"/>
          <p:nvPr/>
        </p:nvSpPr>
        <p:spPr>
          <a:xfrm>
            <a:off x="2895480" y="5335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ipHopDemi"/>
              </a:rPr>
              <a:t>1ST tIM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ipHopDemi"/>
              <a:ea typeface="HipHopDemi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380880" y="26668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inya Nouvelle"/>
              </a:rPr>
              <a:t>Verbal Warning</a:t>
            </a:r>
            <a:r>
              <a:rPr b="0" lang="en-US" sz="3200" spc="-1" strike="noStrike">
                <a:solidFill>
                  <a:srgbClr val="ffffff"/>
                </a:solidFill>
                <a:latin typeface="Minya Nouvell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3"/>
          <p:cNvSpPr/>
          <p:nvPr/>
        </p:nvSpPr>
        <p:spPr>
          <a:xfrm rot="20373000">
            <a:off x="8153280" y="5714640"/>
            <a:ext cx="990720" cy="941400"/>
          </a:xfrm>
          <a:custGeom>
            <a:avLst/>
            <a:gdLst/>
            <a:ahLst/>
            <a:rect l="l" t="t" r="r" b="b"/>
            <a:pathLst>
              <a:path w="990600" h="941388">
                <a:moveTo>
                  <a:pt x="1" y="359577"/>
                </a:moveTo>
                <a:lnTo>
                  <a:pt x="378378" y="359580"/>
                </a:lnTo>
                <a:lnTo>
                  <a:pt x="495300" y="0"/>
                </a:lnTo>
                <a:lnTo>
                  <a:pt x="612222" y="359580"/>
                </a:lnTo>
                <a:lnTo>
                  <a:pt x="990599" y="359577"/>
                </a:lnTo>
                <a:lnTo>
                  <a:pt x="684484" y="581807"/>
                </a:lnTo>
                <a:lnTo>
                  <a:pt x="801412" y="941386"/>
                </a:lnTo>
                <a:lnTo>
                  <a:pt x="495300" y="719151"/>
                </a:lnTo>
                <a:lnTo>
                  <a:pt x="189188" y="941386"/>
                </a:lnTo>
                <a:lnTo>
                  <a:pt x="306116" y="581807"/>
                </a:lnTo>
                <a:lnTo>
                  <a:pt x="1" y="359577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4" descr="hw8_kids3"/>
          <p:cNvPicPr/>
          <p:nvPr/>
        </p:nvPicPr>
        <p:blipFill>
          <a:blip r:embed="rId1"/>
          <a:stretch/>
        </p:blipFill>
        <p:spPr>
          <a:xfrm>
            <a:off x="0" y="533520"/>
            <a:ext cx="2028960" cy="21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19:59:07Z</dcterms:created>
  <dc:creator>Amanda Madden</dc:creator>
  <dc:description/>
  <dc:language>en-US</dc:language>
  <cp:lastModifiedBy>Windows User</cp:lastModifiedBy>
  <dcterms:modified xsi:type="dcterms:W3CDTF">2012-03-15T00:42:20Z</dcterms:modified>
  <cp:revision>14</cp:revision>
  <dc:subject/>
  <dc:title>Slide 1</dc:title>
</cp:coreProperties>
</file>